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D8D-14AD-44CA-BA93-087DBAB7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C1B-CB85-4348-B434-8F6CA9D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95C-AF64-4C9D-AE80-44C78F77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324-6BBD-428F-8CC3-CBD7C8A8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239-97FF-4FA9-AAB9-C52C304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F92-E7EB-4B46-9E19-8CEFF6AF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84F-BEDB-4BCC-99EB-C593E34C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7AD-82AD-4AAA-987D-D22F259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4FF-6775-4B3A-A399-6FDB9879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41E-33F6-4C4F-BD28-19022F3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154-329F-4F2B-9D0D-F618B50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25B-7407-4E0E-B3C1-B20DA1A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CB5-C97F-4B5E-9A24-BD76BD928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8480" y="5019840"/>
            <a:ext cx="1595520" cy="1838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2260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iv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down, as simply as possible, the perimeter of each of the following sha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b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3789360"/>
            <a:ext cx="2087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3355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789360"/>
            <a:ext cx="2016000" cy="1008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9080" y="479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7440" y="400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3800" y="3355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7380000" y="3789000"/>
            <a:ext cx="93492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144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108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51560" y="3357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k -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Let Jim’s age be j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What is his Grandad’s age in terms of j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Correct! 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6600" spc="-1" strike="noStrike">
                <a:solidFill>
                  <a:srgbClr val="ffffff"/>
                </a:solidFill>
                <a:latin typeface="Tahoma"/>
              </a:rPr>
              <a:t>4j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can we express the sum of their ages in an equa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 + 4j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 10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j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 105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 2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71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104040" rIns="104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o, what are their ages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Jim: 21 year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Jim’s Grandad: 4 × 21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= 84 y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think of a number, multiply it by five, add seven to the result and get 22. What is my numb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 the starting number be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plying it by 5 gives 5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Adding 7 gives 5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7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ick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80760"/>
            <a:ext cx="820728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ow many beans make 5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wo - 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ma is seven times as old as her grandson is now. If their ages add up to 96, how old is Grandm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m of two consecutive odd numbers is 152. Find the numb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w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weighs 7 kg more than his brother. Their total weight is 71 kg. How much does Mark weig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ebe’s Auntie Ann is three times as old as Phoebe. The sum of their ages is 52. Find their 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w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of a number, add 8 to it, double the answer, subtract 10 and I end up with 1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number I first thought of wa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rite down an equation that involv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1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e the equation to find the number I first thought 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iv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down the area of each rectang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371628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716280"/>
            <a:ext cx="122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429000"/>
            <a:ext cx="93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2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29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MUST know how to construct and solve a simple algebraic equ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k of a number but don’t tell any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 that number. Then add on 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ve the answer, take away the number first thought 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k of a numb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the numb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d on 10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lve the answ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away the first numb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w make up your own trick and try it out on the person next to you…what number will they end up 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would you explain how to construct an equation to someone who didn’t kno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ing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324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llenge: If I gave you an equation with two parts would you know how to solve i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let’s se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id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ctivity One – 3 m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to the person next to you how you solved your equatio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got the answer wrong, explain to your partner what you did and see if they can show you where you went wro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lesso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tivity 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tivity Tw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Jim’s grandad is four tim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lder than Ji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Their ages add up to 105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hat are their ag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59640" y="112536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6:15:29Z</dcterms:created>
  <dc:creator>Bruno Reddy</dc:creator>
  <dc:description/>
  <dc:language>en-US</dc:language>
  <cp:lastModifiedBy>Bruno Reddy</cp:lastModifiedBy>
  <dcterms:modified xsi:type="dcterms:W3CDTF">2004-12-14T11:19:44Z</dcterms:modified>
  <cp:revision>20</cp:revision>
  <dc:subject/>
  <dc:title>Arrival</dc:title>
</cp:coreProperties>
</file>